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4A46-4BC9-495D-ADF4-CCD25F11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769-03ED-4E28-8B8A-AB37E8A1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218-2AF4-46FD-BF65-E880FD1E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F568-147E-42E5-9621-AC8A16C6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7B3-8AE8-40DD-B874-AFA54EE1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394-F164-4025-86E9-EF5083C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20D-D7EB-4DFB-B804-0BE283DB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DF2-F490-4DB7-B9A3-5FF872CE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0A6-222E-4EAF-BDF5-D807E4F4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2BD-005C-41AA-A7A8-875C722B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E60-F9E6-4878-91E3-40DB082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A76-FB20-410C-8FB5-C64096F7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0E4-0089-4478-8A44-5FDCE11B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8E3-10EF-47BF-86C2-7CF0274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951-F925-47B2-9058-97373C9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8C3-9868-4A31-B902-D0F8E6B6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D79D-880A-4CC4-9654-26FBE414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on a Pilgrimage to Canterb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2, 13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fe of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WOB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WO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, 1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0" y="58672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u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on a Pilgrimage to Canterb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2, 13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i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#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we still on for ton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3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9" descr="Robert F. Kennedy - Photo"/>
          <p:cNvPicPr/>
          <p:nvPr/>
        </p:nvPicPr>
        <p:blipFill>
          <a:blip r:embed="rId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married numb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and achieved my go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4, 13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happy to announce her first, of five (hopefully), weeding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3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wanting to marry five m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1, 13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s ridden my first hor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3, 13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8" descr="http://www.luminarium.org/medlit/wife.gif"/>
          <p:cNvPicPr/>
          <p:nvPr/>
        </p:nvPicPr>
        <p:blipFill>
          <a:blip r:embed="rId5"/>
          <a:stretch/>
        </p:blipFill>
        <p:spPr>
          <a:xfrm>
            <a:off x="2133720" y="24382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8" descr="http://www.luminarium.org/medlit/wife.gif"/>
          <p:cNvPicPr/>
          <p:nvPr/>
        </p:nvPicPr>
        <p:blipFill>
          <a:blip r:embed="rId6"/>
          <a:stretch/>
        </p:blipFill>
        <p:spPr>
          <a:xfrm>
            <a:off x="152280" y="533520"/>
            <a:ext cx="1400400" cy="187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http://www.luminarium.org/medlit/wife.gif"/>
          <p:cNvPicPr/>
          <p:nvPr/>
        </p:nvPicPr>
        <p:blipFill>
          <a:blip r:embed="rId7"/>
          <a:stretch/>
        </p:blipFill>
        <p:spPr>
          <a:xfrm>
            <a:off x="2133720" y="579132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8" descr="http://www.luminarium.org/medlit/wife.gif"/>
          <p:cNvPicPr/>
          <p:nvPr/>
        </p:nvPicPr>
        <p:blipFill>
          <a:blip r:embed="rId8"/>
          <a:stretch/>
        </p:blipFill>
        <p:spPr>
          <a:xfrm>
            <a:off x="2133720" y="51814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8" descr="http://www.luminarium.org/medlit/wife.gif"/>
          <p:cNvPicPr/>
          <p:nvPr/>
        </p:nvPicPr>
        <p:blipFill>
          <a:blip r:embed="rId9"/>
          <a:stretch/>
        </p:blipFill>
        <p:spPr>
          <a:xfrm>
            <a:off x="2133720" y="44956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8" descr="http://www.luminarium.org/medlit/wife.gif"/>
          <p:cNvPicPr/>
          <p:nvPr/>
        </p:nvPicPr>
        <p:blipFill>
          <a:blip r:embed="rId10"/>
          <a:stretch/>
        </p:blipFill>
        <p:spPr>
          <a:xfrm>
            <a:off x="2133720" y="38098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8" descr="http://www.clker.com/cliparts/d/a/9/0/11954225591787642850AJ_medieval_priest_with_sacrament.svg.hi.png"/>
          <p:cNvPicPr/>
          <p:nvPr/>
        </p:nvPicPr>
        <p:blipFill>
          <a:blip r:embed="rId11"/>
          <a:stretch/>
        </p:blipFill>
        <p:spPr>
          <a:xfrm>
            <a:off x="152280" y="5257800"/>
            <a:ext cx="304920" cy="660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0"/>
          <p:cNvSpPr/>
          <p:nvPr/>
        </p:nvSpPr>
        <p:spPr>
          <a:xfrm>
            <a:off x="777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4"/>
          <p:cNvSpPr/>
          <p:nvPr/>
        </p:nvSpPr>
        <p:spPr>
          <a:xfrm>
            <a:off x="777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6"/>
          <p:cNvSpPr/>
          <p:nvPr/>
        </p:nvSpPr>
        <p:spPr>
          <a:xfrm>
            <a:off x="777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8" descr="http://t1.gstatic.com/images?q=tbn:ANd9GcQS6hNpA_2AlVtECM_yRSdbXU1pPOkngUp4Hq1qAG-KvxE8OCMFCQ"/>
          <p:cNvPicPr/>
          <p:nvPr/>
        </p:nvPicPr>
        <p:blipFill>
          <a:blip r:embed="rId12"/>
          <a:stretch/>
        </p:blipFill>
        <p:spPr>
          <a:xfrm>
            <a:off x="685800" y="5257800"/>
            <a:ext cx="46188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0" descr="http://karenswhimsy.com/public-domain-images/medieval-knight-costume/images/medieval-knight-costume-1.jpg"/>
          <p:cNvPicPr/>
          <p:nvPr/>
        </p:nvPicPr>
        <p:blipFill>
          <a:blip r:embed="rId13"/>
          <a:stretch/>
        </p:blipFill>
        <p:spPr>
          <a:xfrm>
            <a:off x="1219320" y="5257800"/>
            <a:ext cx="501480" cy="6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2" descr="http://t0.gstatic.com/images?q=tbn:ANd9GcRelW6z6RmzSQBpDSiDDnu8IskfC0E_n9ivoMTO6yyQE1pXJRa7eA&amp;t=1"/>
          <p:cNvPicPr/>
          <p:nvPr/>
        </p:nvPicPr>
        <p:blipFill>
          <a:blip r:embed="rId14"/>
          <a:srcRect l="0" t="2957" r="45844" b="0"/>
          <a:stretch/>
        </p:blipFill>
        <p:spPr>
          <a:xfrm>
            <a:off x="0" y="6019920"/>
            <a:ext cx="609480" cy="62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4" descr="http://t1.gstatic.com/images?q=tbn:ANd9GcQV6TfVDe6rD5lR--dmHA1piGZPcYwXan9dTeCMII_YJJ2OyQYU&amp;t=1"/>
          <p:cNvPicPr/>
          <p:nvPr/>
        </p:nvPicPr>
        <p:blipFill>
          <a:blip r:embed="rId15"/>
          <a:srcRect l="0" t="0" r="0" b="25432"/>
          <a:stretch/>
        </p:blipFill>
        <p:spPr>
          <a:xfrm>
            <a:off x="609480" y="6019920"/>
            <a:ext cx="56844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6" descr="http://t3.gstatic.com/images?q=tbn:ANd9GcSNui9-SBXfX0yH2Ki-G1nvaLbOYEXsRTdXxJFMr9wR6lEJJi8G"/>
          <p:cNvPicPr/>
          <p:nvPr/>
        </p:nvPicPr>
        <p:blipFill>
          <a:blip r:embed="rId16"/>
          <a:stretch/>
        </p:blipFill>
        <p:spPr>
          <a:xfrm>
            <a:off x="1219320" y="6019920"/>
            <a:ext cx="441360" cy="609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1"/>
          <p:cNvSpPr/>
          <p:nvPr/>
        </p:nvSpPr>
        <p:spPr>
          <a:xfrm>
            <a:off x="6477120" y="2666880"/>
            <a:ext cx="2286000" cy="1369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’s Horse F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out for your horses since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,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3" descr="horse_eating"/>
          <p:cNvPicPr/>
          <p:nvPr/>
        </p:nvPicPr>
        <p:blipFill>
          <a:blip r:embed="rId17"/>
          <a:srcRect l="0" t="19280" r="0" b="0"/>
          <a:stretch/>
        </p:blipFill>
        <p:spPr>
          <a:xfrm>
            <a:off x="8153280" y="2743200"/>
            <a:ext cx="544680" cy="638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4"/>
          <p:cNvSpPr/>
          <p:nvPr/>
        </p:nvSpPr>
        <p:spPr>
          <a:xfrm>
            <a:off x="7086600" y="4343400"/>
            <a:ext cx="1676520" cy="1168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</a:rPr>
              <a:t>E-Harmon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find the right match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5"/>
          <p:cNvSpPr/>
          <p:nvPr/>
        </p:nvSpPr>
        <p:spPr>
          <a:xfrm>
            <a:off x="7543800" y="4724280"/>
            <a:ext cx="533520" cy="381240"/>
          </a:xfrm>
          <a:custGeom>
            <a:avLst/>
            <a:gdLst>
              <a:gd name="textAreaLeft" fmla="*/ 124200 w 533520"/>
              <a:gd name="textAreaRight" fmla="*/ 408960 w 53352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on a Pilgrimage to Canterb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fe of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WOB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WO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, 1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nuary 2, 1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five 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king baths, going on dates, bow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uys, taking long journeys, horseback ri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ll Hym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ny medieval chick fl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story Channel, Bachel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ook of the Duchess, Romaunt of the Rose, The Parliament of Fowls, Troilus and Criseyde, Legend of Good W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34 Main Street, B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123)456-78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feofbath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4" descr="http://www.rootsweb.ancestry.com/~txfalls/picUnknown3_FiveMenInARow_04172004.jpg"/>
          <p:cNvPicPr/>
          <p:nvPr/>
        </p:nvPicPr>
        <p:blipFill>
          <a:blip r:embed="rId2"/>
          <a:srcRect l="0" t="0" r="0" b="26489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http://t3.gstatic.com/images?q=tbn:ANd9GcSc50yslKdjeogrN5z6X_D04-k-wfKhXCV0iXj9ZDCAVtmjT1fA"/>
          <p:cNvPicPr/>
          <p:nvPr/>
        </p:nvPicPr>
        <p:blipFill>
          <a:blip r:embed="rId3"/>
          <a:stretch/>
        </p:blipFill>
        <p:spPr>
          <a:xfrm>
            <a:off x="152280" y="6019920"/>
            <a:ext cx="540000" cy="71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2" descr="http://www.luminarium.org/medlit/wife.gif"/>
          <p:cNvPicPr/>
          <p:nvPr/>
        </p:nvPicPr>
        <p:blipFill>
          <a:blip r:embed="rId4"/>
          <a:stretch/>
        </p:blipFill>
        <p:spPr>
          <a:xfrm>
            <a:off x="228600" y="457200"/>
            <a:ext cx="1390680" cy="1863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4"/>
          <p:cNvSpPr/>
          <p:nvPr/>
        </p:nvSpPr>
        <p:spPr>
          <a:xfrm>
            <a:off x="6781680" y="1676520"/>
            <a:ext cx="2210040" cy="1245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a Jewe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tanding               jewelry for an outstanding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3438360" y="2419200"/>
            <a:ext cx="2267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7" descr="ring"/>
          <p:cNvPicPr/>
          <p:nvPr/>
        </p:nvPicPr>
        <p:blipFill>
          <a:blip r:embed="rId5"/>
          <a:stretch/>
        </p:blipFill>
        <p:spPr>
          <a:xfrm>
            <a:off x="7696080" y="2057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8"/>
          <p:cNvSpPr/>
          <p:nvPr/>
        </p:nvSpPr>
        <p:spPr>
          <a:xfrm>
            <a:off x="6705720" y="3733920"/>
            <a:ext cx="2286000" cy="1520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alance walking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antied 100 miles, or your money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0" descr="ANd9GcSNenI41LNrWesptrtH6mmeetcqxgsxKBCI_1PGJnqpSvYOwnIFNQ"/>
          <p:cNvPicPr/>
          <p:nvPr/>
        </p:nvPicPr>
        <p:blipFill>
          <a:blip r:embed="rId6"/>
          <a:srcRect l="0" t="13365" r="0" b="0"/>
          <a:stretch/>
        </p:blipFill>
        <p:spPr>
          <a:xfrm>
            <a:off x="6934320" y="4343400"/>
            <a:ext cx="7617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fe of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WO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fe of Bath is going on a Pilgrimage to Canterb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8" descr="http://www.luminarium.org/medlit/wife.gif"/>
          <p:cNvPicPr/>
          <p:nvPr/>
        </p:nvPicPr>
        <p:blipFill>
          <a:blip r:embed="rId1"/>
          <a:stretch/>
        </p:blipFill>
        <p:spPr>
          <a:xfrm>
            <a:off x="152280" y="533520"/>
            <a:ext cx="547920" cy="73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4" descr="http://www.rootsweb.ancestry.com/~txfalls/picUnknown3_FiveMenInARow_04172004.jpg"/>
          <p:cNvPicPr/>
          <p:nvPr/>
        </p:nvPicPr>
        <p:blipFill>
          <a:blip r:embed="rId2"/>
          <a:srcRect l="0" t="0" r="0" b="26471"/>
          <a:stretch/>
        </p:blipFill>
        <p:spPr>
          <a:xfrm>
            <a:off x="762120" y="5105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6" descr="http://t3.gstatic.com/images?q=tbn:ANd9GcSc50yslKdjeogrN5z6X_D04-k-wfKhXCV0iXj9ZDCAVtmjT1fA"/>
          <p:cNvPicPr/>
          <p:nvPr/>
        </p:nvPicPr>
        <p:blipFill>
          <a:blip r:embed="rId3"/>
          <a:stretch/>
        </p:blipFill>
        <p:spPr>
          <a:xfrm>
            <a:off x="2133720" y="5105520"/>
            <a:ext cx="877680" cy="1158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8" descr="http://www.luminarium.org/medlit/wife.gif"/>
          <p:cNvPicPr/>
          <p:nvPr/>
        </p:nvPicPr>
        <p:blipFill>
          <a:blip r:embed="rId4"/>
          <a:stretch/>
        </p:blipFill>
        <p:spPr>
          <a:xfrm>
            <a:off x="3657600" y="5105520"/>
            <a:ext cx="838080" cy="11239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6"/>
          <p:cNvSpPr/>
          <p:nvPr/>
        </p:nvSpPr>
        <p:spPr>
          <a:xfrm>
            <a:off x="77760" y="-762120"/>
            <a:ext cx="96192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8"/>
          <p:cNvSpPr/>
          <p:nvPr/>
        </p:nvSpPr>
        <p:spPr>
          <a:xfrm>
            <a:off x="77760" y="-762120"/>
            <a:ext cx="96192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0" descr="http://lib.jcu.edu/images/wife_of_bath_2.jpg"/>
          <p:cNvPicPr/>
          <p:nvPr/>
        </p:nvPicPr>
        <p:blipFill>
          <a:blip r:embed="rId5"/>
          <a:stretch/>
        </p:blipFill>
        <p:spPr>
          <a:xfrm>
            <a:off x="762120" y="2057400"/>
            <a:ext cx="1422360" cy="236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2" descr="http://t2.gstatic.com/images?q=tbn:ANd9GcRokYH3fckMTCLjU_PIXcCRhmwUV7t2lGazGm-uV9JBiue_g_QU8w"/>
          <p:cNvPicPr/>
          <p:nvPr/>
        </p:nvPicPr>
        <p:blipFill>
          <a:blip r:embed="rId6"/>
          <a:stretch/>
        </p:blipFill>
        <p:spPr>
          <a:xfrm>
            <a:off x="3505320" y="1905120"/>
            <a:ext cx="1687320" cy="2590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4" descr="http://t3.gstatic.com/images?q=tbn:ANd9GcQZ7mLxs15IOwzzeTxd0p5tNKe2rJ8NmyaC-DrmI2BEJsiyv_kQrQ"/>
          <p:cNvPicPr/>
          <p:nvPr/>
        </p:nvPicPr>
        <p:blipFill>
          <a:blip r:embed="rId7"/>
          <a:stretch/>
        </p:blipFill>
        <p:spPr>
          <a:xfrm>
            <a:off x="6172200" y="1828800"/>
            <a:ext cx="1666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eacher</cp:lastModifiedBy>
  <dcterms:modified xsi:type="dcterms:W3CDTF">2011-11-14T16:08:26Z</dcterms:modified>
  <cp:revision>29</cp:revision>
  <dc:subject/>
  <dc:title>Profile</dc:title>
</cp:coreProperties>
</file>